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CA8-8CF2-49A5-9527-8B83C921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761-6C0D-4674-9A02-93AD7C8B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B78-C741-4A20-ABCE-15D187C4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FA3-DCA9-48FD-9584-D02E86FE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52A-8269-448E-9FB1-F8A24841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05D-6837-4A22-9C3F-74EA2F7A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36D-17B4-4469-8E48-95147FD2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95F-C7AD-4F14-9EB5-274F9E0A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EDE-406B-499D-93F6-BC4F1A11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313-A838-4881-9FCD-3DC08C5F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7FE-7E57-4989-8825-E5B6F849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C21-E84F-4413-834D-0ED31A66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F463-A30E-491D-8E1C-C8C5F850B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527360" cy="782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5638680" cy="987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6324480" cy="1049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9480" y="2514600"/>
            <a:ext cx="76964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153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696080" cy="104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8076960" cy="1654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43434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441972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0010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8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83908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3:50:23Z</dcterms:created>
  <dc:creator>grahams</dc:creator>
  <dc:description/>
  <dc:language>en-US</dc:language>
  <cp:lastModifiedBy>grahams</cp:lastModifiedBy>
  <dcterms:modified xsi:type="dcterms:W3CDTF">2012-04-26T13:55:08Z</dcterms:modified>
  <cp:revision>2</cp:revision>
  <dc:subject/>
  <dc:title>Slide 1</dc:title>
</cp:coreProperties>
</file>